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CB0-7F08-4C70-B209-8FD30EB3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ACDC-7E59-4311-BD9A-3245C6B1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8D2-44A8-4091-9178-0D0272D9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3A1B-A04E-4BB6-8551-FE805AA0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DD88-0BDB-4598-88B4-4A79F682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D403-C3B4-4577-89FE-90D93964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3A3-B1A1-4335-8C64-A9A7D8C4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A22-5883-4E0E-B1B8-60BF8922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E50-A160-4081-9B4B-E10EB1F5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6C0-5766-42B1-98D1-34277A0B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F288-07C9-4641-B3B6-2BFE4267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3BE-611D-450D-948C-CBF9C64B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659F-2AA3-415B-92A3-A86D29AEE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La Casa para la Venta!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: Morgan Fr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160" y="4495320"/>
            <a:ext cx="6095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casa esta localizada en Hollywood, California, Estados Unidos. Esta en la calle Sexto y cuesta $1,999,999,999. La casa tiene 5 grande dormitorios y 5 bastante grande dormitorios. La casa tiene uno cocina tambien. La cocina es muy moderna. La cocina tien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vera, microondas, freezer, cocina, fregadero, lavavajillas. La casa tiene 4 banos. Tres son grandes y uno son pequena. Dos son en  planta baja y dos en el primer piso. La casa tien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ón, comedor, garaje. La casa muy bonita y moderno. Me gusta la ca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7:02:34Z</dcterms:created>
  <dc:creator>fryemor</dc:creator>
  <dc:description/>
  <dc:language>en-US</dc:language>
  <cp:lastModifiedBy>fryemor</cp:lastModifiedBy>
  <dcterms:modified xsi:type="dcterms:W3CDTF">2012-05-22T13:25:09Z</dcterms:modified>
  <cp:revision>5</cp:revision>
  <dc:subject/>
  <dc:title>La Casa para la Venta</dc:title>
</cp:coreProperties>
</file>